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DE2AE5-C9AA-4706-B36B-25ADA9D9F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12D240-F99A-4034-B954-3E606F4BD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1A5470-45EA-4835-A699-5F533E61F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990210-8200-4157-A1D5-FD92F9D31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A1F8A0-8313-433D-B2DF-45C9F65EE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F016C6-1F93-4E67-973E-B674F566B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B34B01-32DE-4CD8-88AF-2C71996A3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F59488-8981-46A5-AD1E-DBB06C427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F6ACCF-D87E-4B80-BDC1-70012275F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146D3E-2773-4DA3-B29E-672B923DB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EC6DF5-D165-4DDA-998D-0AF39C1D4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513387-E2F0-4B86-8299-6A26214D0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638680" y="4952880"/>
            <a:ext cx="3241800" cy="1817640"/>
            <a:chOff x="5638680" y="4952880"/>
            <a:chExt cx="3241800" cy="1817640"/>
          </a:xfrm>
        </p:grpSpPr>
        <p:sp>
          <p:nvSpPr>
            <p:cNvPr id="1" name=""/>
            <p:cNvSpPr/>
            <p:nvPr/>
          </p:nvSpPr>
          <p:spPr>
            <a:xfrm>
              <a:off x="5638680" y="6324480"/>
              <a:ext cx="3202200" cy="2476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rot="21132000">
              <a:off x="7391520" y="6477120"/>
              <a:ext cx="1482480" cy="19368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7010280" y="4952880"/>
              <a:ext cx="1828800" cy="1482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ftr" idx="1"/>
          </p:nvPr>
        </p:nvSpPr>
        <p:spPr>
          <a:xfrm>
            <a:off x="62481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ko-KR" sz="1400" spc="-1" strike="noStrike">
                <a:solidFill>
                  <a:srgbClr val="b2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&lt;footer&gt;</a:t>
            </a: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Written by Seok-cheol Cho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743040" indent="-285840">
              <a:spcBef>
                <a:spcPts val="649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1143000" indent="-228600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600200" indent="-228600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2057400" indent="-228600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0" y="0"/>
            <a:ext cx="8944920" cy="3993120"/>
            <a:chOff x="0" y="0"/>
            <a:chExt cx="8944920" cy="3993120"/>
          </a:xfrm>
        </p:grpSpPr>
        <p:sp>
          <p:nvSpPr>
            <p:cNvPr id="44" name=""/>
            <p:cNvSpPr/>
            <p:nvPr/>
          </p:nvSpPr>
          <p:spPr>
            <a:xfrm>
              <a:off x="3200400" y="3581280"/>
              <a:ext cx="5638680" cy="3682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 rot="21132000">
              <a:off x="6248520" y="3200400"/>
              <a:ext cx="2666880" cy="61452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809880" cy="274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A0323-6F1C-46BF-A8F5-502305C120BD}" type="slidenum"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5638680" y="6324480"/>
            <a:ext cx="3202200" cy="247680"/>
          </a:xfrm>
          <a:prstGeom prst="ellipse">
            <a:avLst/>
          </a:prstGeom>
          <a:solidFill>
            <a:srgbClr val="9f7a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 rot="21132000">
            <a:off x="7391520" y="6477120"/>
            <a:ext cx="1482480" cy="193680"/>
          </a:xfrm>
          <a:prstGeom prst="ellipse">
            <a:avLst/>
          </a:prstGeom>
          <a:solidFill>
            <a:srgbClr val="e5802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7010280" y="4952880"/>
            <a:ext cx="1828800" cy="14828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914400" algn="ctr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371600" algn="ctr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1828800" algn="ctr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261900"/>
                </a:solidFill>
                <a:latin typeface="굴림"/>
              </a:rPr>
              <a:t>고주파 심부투열치료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absorp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양과 밀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전기적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적 성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이 높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고 전도도가 낮은 매질이 전자파 에너지의 흡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으로 유전율이 높고 전도도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낮은 근육은 유전율이 낮고 전도도가 좋은 지방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보다 에너지 흡수가 많아 심부투열로 골격근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서 온도상승 시킬 수있다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250920" y="476280"/>
            <a:ext cx="86868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침투깊이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enetra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주파수와 매질의 특성에 따라 다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가 낮을수록 침투깊이가 깊고 물함량이 적은 물질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 침투깊이가 깊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류와 변위전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류가 조직을 통과할 때 조직의 저항에 의해서 전기에너지가 열에너지로 전환하며 이 때 발생하는 열량은 줄법칙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Joule’s law)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에 따른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2. </a:t>
            </a: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심부투열치료의 생리적 효과 및 치료 효과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온도 상승 및 세포기능 증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요인은 조직의 온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노출시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온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상승속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부위의 크기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효과를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얻을 수 있는 온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0° - 45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5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에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파괴가 일어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소 노출기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대 노출기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온도가 상승하면 초기에는 신진대사가 증진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되나 광범위하게 장시간 온도가 상승 되면 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대사가 감소하는데 이는 온도가 상승함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 화학반응이 일어나 효소활성이 변하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때문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68360" y="25992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섬유성 교원조직의 신장력 증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 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등 결합조직의 고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형성으로 관절운동능력이 상실되 면 결합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이 점점 섬유성 변화를 일으켜 단축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 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온도가 상승됨에 따라 결합조직의 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탄력성등과 같은 물리적 성질이 현저 히 변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시켜 섬유조직의 신장력이 증가되는데 특히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등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 정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장 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합조직의 국소온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0-4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에서 신장운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동 시켰을 때 조직손상 없이 최대신장이 유발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서 관절낭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의 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증 및 구축은 먼저 열치료  후 장시간 신장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는 것이 바람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의 현저한 감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은 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티죤과 같은 약물에 영향을 받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3628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통작용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충혈과 통증이 완화되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통증부위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말초신경에 열을 가하면 통증역치가 상승하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통작용이 나타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자극에 의한 반자극으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로 관문에 영향을 미치며 엔돌핀 분비도 간과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 없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SWD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주위 조직의 통증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MWD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재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은 표재관절 주위 조직등 근골격계의 통증완화에 유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br>
              <a:rPr sz="3000"/>
            </a:b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경축 완화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의 온도가 상승하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II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군 신경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의 흥분발사율이 감소되고 알파 운동 신경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섬유의 흥분발사율이 감소되어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GTO Ib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흥분발사율의 증가도 동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위의 피부 온도가 상승되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II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섬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. spindle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흥분발사율이 감소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되고 이에따라  운동 신경섬유의 활성화가 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소되어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량증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국소온도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이상 올라가면 직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효과에 의하여 동맥 및 모세혈관이 확장되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량이 증가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서 대사산물이 깨끗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하게 하고 산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영양물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항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백혈구등의 공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급이 증가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한편 혈관확장으로 모세혈관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수압이 증가되며 이에따라 부종이 생길 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있으며 림프순환이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 치료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온도가 중등도 상승하면 대사가 증진됨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 암세포의 성장속도가 빨라지고 전이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촉진요인이 되지만 국소온도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이상으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올리면 암세포가 죽거나 성장 및 전이가 억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433.92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를 악성종양의 열치료 목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 및 근육층을 통과하여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깊이에 열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치료시 피부 및 피하조직의 화상 및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괴사 등 조직손상에 유의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1.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고주파 전류의 생물리학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자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olecular activity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⑴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분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ionic partic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 이동의 역전이 반복되면서 인접한 다른 분자들과 충돌하여 열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0.00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㎳에 지나지 않아 전기화학적 반응이 일어나지 않으므로 감각신경섬유이나 운동신경섬유를 자극하지 않고 열을 발생 시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228600" y="380520"/>
            <a:ext cx="8229600" cy="63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만성염증의 화해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량 증가로 산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영양물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항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백혈구등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증가되며 정맥순환이 증진됨에 따라 염증성 삼출물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등을 도와 화해과정을 촉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만성감염의 치유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막을 통한 여과 및 확산속도가 증가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량이 많아지면 모세혈관의 투과성이 증가하고 혈장단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백들이 혈관밖으로 나와 백혈구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항체등이 증가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 신체방어기전의 향상등으로 만성감염의 치료를 돕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0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창상치유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5500"/>
                </a:solidFill>
                <a:latin typeface="굴림"/>
              </a:rPr>
              <a:t>Shortwave Diathermy</a:t>
            </a: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68360" y="476280"/>
            <a:ext cx="822960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105435"/>
                </a:solidFill>
                <a:latin typeface="굴림"/>
              </a:rPr>
              <a:t>1. </a:t>
            </a:r>
            <a:r>
              <a:rPr b="1" lang="ko-KR" sz="3000" spc="-1" strike="noStrike">
                <a:solidFill>
                  <a:srgbClr val="105435"/>
                </a:solidFill>
                <a:latin typeface="굴림"/>
              </a:rPr>
              <a:t>발생장치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원공급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100V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를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000-15000V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로 높여 공급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발진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3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진공관 사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261900"/>
                </a:solidFill>
                <a:latin typeface="굴림"/>
              </a:rPr>
              <a:t>가열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기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자장 전계법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축전기 전계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condenser electric field heating method)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기장 또는 콘덴스 전계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원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극을 환부 양측에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극은 콘덴서의 극판으로 작용하고 조직은 유전체로 작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⑵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장의 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를 두극판의 전계내에 두면 전도 전류와 변위전류가 동시에 통과 하는 것이되고 주파수가 높아짐에 따라 변위전류가 많이 흐르며 전기에너지가 열에너지로 변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경우 단파치료의 가열에는 생체조직을 구성하고  있는 분자의 쌍극자로서의 성질이 관계하고 그 가열도는 그 물질의 유전률에 비례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러나 생체조직의 유전율에는 그다지 큰차이가 없는 이상 주파수가 크지면 유전율이 작아지기 때문에 어느 부위에도 통전할 수 있고 심부를 균일하게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열하는 효과가 생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⑶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장의 특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발생하는 열의 분포는 전장분포가 크면 열발생이 크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표면에 가까운 부위나 중심부에 열 발생이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⑷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축전기 전계법의 종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의 종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축전기 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연성 금속극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스폰지등의 절연물외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=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 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의 수건을 깔고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콘덴서패드 전극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축전기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pad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flexible condence pad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연성금속 금속극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스폰지 등의 절연물질의 외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→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한 수건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 깔고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단일 또는 이중 커프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single and double cuff)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도자를 지절 치료에 적합하도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커프형태로 변형 시킨 것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→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한 수건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 깔고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685800" y="9140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축전기 극판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air spaced plates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동성 강성 가열 극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리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프라스틱외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=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판과 치료부위사이에 간격이 유지되는 강체 전극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 시 땀의 흡수나 위생의 목적으로 얇은 수건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하나만 받치고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점은 치료과정의 편의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도자의 적용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보다 약간 큰 것이 유리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간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㎝ 정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와 전극사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심부가열에 유리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.5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㎝ 정도 근접배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천층가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685800" y="228600"/>
            <a:ext cx="77724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자장 전계법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electromagnetic, Inductothermy): coil, cable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법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1)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원리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굴곡성이 있는 무거운 절연 전선을 규칙적으로 감은 코일에 단파 전류를 보내어 치료 하는 방법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2)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두 장과의 상호작용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기장 사용의 경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높은 저항을 가진 조직에 심부가열을 요구하는 경우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ⅱ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자기장의 사용의 경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낮은 저항을 가진 조직에 표면 가열 요구 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ⅲ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기장과 자기장의 사용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체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cable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의 전 길이를 알맞게 사용한다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장법의 발열이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a. eddy current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국소전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전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전류가 조직내에 유리되면 이 전류 자신이 치료부의 바깓 방향으로 향하는  자장을  발생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런 유도자기는 케이블의 중심부에서 최대가 되며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inductance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는 자장의 바깥쪽 보다는 중심쪽이 높기 때문에 대부분의 전류는  천층으로 흐른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내에 유도된 와전류가 충분히 커지면 체내의 전도성  조직에  발열현상이 일어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방법 사용시 함수율이 높은 조직일 수록 가열되기 쉽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하조직 보다 근육부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온도 상승이 현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가열법의 종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의 형태에 따라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곡성 전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rum) 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 자체내에 일정한 공간이 유지되어 있기 때문에 치료시 타올 패딩이 필요 없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전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원통배치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  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평면코일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  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극가열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저전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전류를 이용한 유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가열법의 최근의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평면코일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나 입체 코일을 작은 강체제속에 장치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 가열법으로 국소치료와 지점치료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리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시 타올패딩은 필요  없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4960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전선의 길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파장의 반정도로 완전한 하나의 진동회로가 만들어지게 됨으로 길이는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.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미터로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접한 피복사이의 거리는 전류에 의해서 발생되는 파장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/2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3) SWD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의 전극의 종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가열법의 단극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전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장과 자장이 발생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연성 패드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축전기 극판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곡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rum)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기장이 형성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금속삽입접촉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활성도자는 직강이나 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비활성도자는 축전패드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539640" y="620640"/>
            <a:ext cx="8229600" cy="467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⑵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극분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olar molecu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 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물과 같은 분극분자는 전기적으로 중성이지만 한쪽은 양전하를 다른쪽은 음전하를 띠고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와같이 서로 반대되는 이온으로 구분할 수 있는 분자를 쌍극자라 하고 이분자에 고주파 교류전류를 흘려주면 분극 분자들이 회전운동을 하게되어 인접한 분자와 부딛히게 되어 열이 발생 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⑸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도자의 적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도자가 적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간격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배치의 종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S-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간격에 따라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접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격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근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배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고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벨트나 센드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면에 따른 배치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대면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교차배치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면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선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460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324000" y="62064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용량과 치료시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강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환자가 열량을 호소에 의하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편안한 온감을 느낄 수 있는 강도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-200mA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80-120mA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사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, 150mA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상은 위험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시간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을 초과해서는 안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 이상은 혈압 강하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rebound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현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관확장 후 재수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작은 치료부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10-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사지나 천층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큰치료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20-3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내부장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반장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323640" y="549360"/>
            <a:ext cx="835164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발열깊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대발열부는 천근막인 피하지방층이며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동안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-3cm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깊이 까지 발열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연부조직이 적은 관절내의 열상승은 축전기 전계법이 효과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대로 고관절과 같은 연부조직이 두꺼운 관절은 비효과적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천층근육의 열발생은 유도 가열법이 유효하며 발열 깊이는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-4cm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정도 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혈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장기 등은 유도 가열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68360" y="33300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배치의 원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배치의 원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목적과 치료부위의 깊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전기적 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환자의 자세 등과 같은 치료부위의 조건에 따라 전극을 배치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열범위와 깊이는 전기장의 형성 모양에 따라 달라지며 그 요인은 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 사이의 거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 등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거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normal spa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 전극을 양쪽 모두 동일한 거리를 두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2.5,d2=2.5cm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치시 조직 전체에 고르게 전기장이 형성되어 열이 조직 전체에 고르게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접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ecreasing sp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 전극을 양쪽 모두 동일한 거리를 두고 보통 보다 가까이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1.5, d2=1.5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표면조직에서 열이 더 많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근배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을 서로 다른 거리를 두고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2.5, d2=3.0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거리가 가까운 쪽에서 전기장의 밀도가 높아져 열 발생이 많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격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increasing spa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보다 약간 큰 전극을 양쪽 모두 동일한 거리를 두고 보통보다 멀리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5,  d2=5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심부조직에 열이 더 많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매입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etal inplant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은 인체조직보다 저항이 낮아 금속매입이 된 선을 따라 정전장 또는 전자장의 밀도가 높아져 금속 주위 조직에 화상 위험이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air in cavity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는 저항이 높아 자궁이나 부비동 같은 공기가 차 있는 강에서는 전기장이 저항이 높은 공기를 피해 반사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size of electrod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절 치료시 팔다리의 직경보다 적은 전극을 쓰면 표면조직에 밀도가 높아져 표면조직에 열 발생이 많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보다 큰 전극을 사용하면 전기장이 공기속에서 형성되어 효과가 감소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또 크기가 다른 전극을 사용하면 작은 전극쪽에 밀도가 높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osition of electrod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는 가열 범위 및 깊이에 관계가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돌기부를 치료시 전극이 피부에 평행해야 전기장의 밀도가 돌기부에 고르게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이 피부 밖으로 나오고 전극 사이의 거리가 좁으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+d2&gt;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전극간의 거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장의 대부분이 공기중에서 형성되고 돌출부 끝부위에 밀도가 높아지게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전극이 피부에 평행하게 배치되지 않으면 전극의 피부와 가까운 쪽에 전기장의 밀도가 높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79280" y="0"/>
            <a:ext cx="87854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의 배치방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)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콘덴서전극 또는 축전기 극판도자를 사용하는 방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개의 전극을 치료부위를 사이에 두고 서로 마주보게 배치하는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가열효과는 전극의  크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과 피부와의 거리에 따라 다르게 나타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개의 전극을 인체의 표면에 평행하게 배치하는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방법으로 신체의 한쪽을 가열하는데 적합하며 종공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법과 횡공면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과 피부간을 좁히면 표면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에 열발생이 많고 피부 전극간을 넓게 하면 좀 더 깊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은 부위에 열 발생이 많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간의 거리가 피부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의 거리의 합보다 적으면 전기장이 조직보다 두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이에서 형성되어 반드시 전극간의 거리가 피부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의 거리의 합보다 크야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⑶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비분극분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nonpolar molecu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등과 같이 전하를 띠지 않고 있는 원자나 분자도 빠르게 진동하는 전장에 영향을 받아 궤도를 돌던 전자가 뒤틀리게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교대로 반대 극성으로 끌리게 되어 전자구름의 이동이 일어나게 되고 이때 원자나 분자가 직접 열을 발생 시키지는 않지만 인접한 분자들과 상호작용을 일으켜서 분자들을 더욱 우왕좌왕 뒤틀리면서 운동이 일어나 열이 발생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접선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접선법은 공면법을 응용한 방법으로 굴곡이 있는 부위에 적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 전극의 평행과는 관계 없이 피부표면에 평행하게 배치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로 표면조직이 가열되며 요천관절부위의 치료에 적합 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교차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같은 치료부위에 대면법으로 한번 치료하고 대각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X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혹은 열십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+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로 전극의 위치를 바꿔 한번 더 치료하는 대면법을 응용한 치료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로 부비동과 같이 공기가 있는 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궁 등과 같은 내장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퇴관절 및 무릎 관절 등과 같은 심부조직의 열치료에 적합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대면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대면법은 대면법을 응용한 것으로 두 전극을 종으로 배치하는 방법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전극을 무릎 관절 위와 발바닥에 배치하먼 연부조직이 적은 발목관절 부위에 정전장의 전자력선이 집중되어 발목관절부위를 가열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124000" y="0"/>
            <a:ext cx="3791160" cy="65786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16360" cy="43257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4788000" y="1700280"/>
            <a:ext cx="4356000" cy="4356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 전극과 축전기 극판전극을 사용하는 방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한개의 콘덴서패드전극과 한개의 축전기극판전극을 사용하는 방법으로 주로 공면법과 종대면법에 흔히 쓰인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병열콘덴서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개의 축전기극판전극과 두개 또는 한개의 콘덴서 패드를 사용하여 두 부위를 동시에 치료하는 방법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코일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와 코일을 사용하는 방법으로 코일의 근위부고리에서 전자장이 형성되고 콘덴서패드와 코일의 근위부 사이에서는 전기장이 형성되게 하는 방법과 코일의 근위부 모든 고리에서 전자장이 형성되고 콘덴서패드와 코일의 근위부 사이에서는 전기장이 형성되는 방법이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96472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케이블 또는 코일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일감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많이 이용하는 방법 중의 하나로 팔이나 다리에 일을 단단하게 말아 감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감기는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이상되어야며 코일의 간격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.5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상으로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나사꼴 코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과 같이 평편한 부위에 적용하기 좋은 방법으로 코일을 나선모양으로 감아 올려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최대 열발생부위가 도너츠 모양으로 형성되며 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겹나사꼴 코일 등과 같은 평편한 부위에 적용하기 좋은 방법으로 나선 모양으로 쌍으로 감아 올려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755640" y="14400"/>
            <a:ext cx="7201080" cy="64418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리을자코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과 같은 평편한 부위에 적용하기 좋은 방법으로 코일을 리을자 모양으로 척추를 따라 올려 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드럼전극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드럼전극은 코일전극을 이용한 것으로 원통꼭전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onode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뿔꼴전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inode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날개전극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iplode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을 사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날개전극은 두 날개를 조절하여 피부를 평행하게 위치시키는 공면법이나 두 날개끼리 마주보도록 배치하는 대면법을 이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monod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및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minode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는 피부에 평행하게 위치시켜 사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에 전자장계가 많이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116000" y="25560"/>
            <a:ext cx="6985080" cy="68785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장의 유전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※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전극 사이가 진공일 때와 유전체를 넣었을 때의 정전용량의 비를 말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액이나 근육과 같은 물함량이 많은 조직은 유전율이 높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높아질수록  유전률이 낮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386000" y="0"/>
            <a:ext cx="6372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576440" y="0"/>
            <a:ext cx="599112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187280" y="0"/>
            <a:ext cx="578664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0" y="849240"/>
            <a:ext cx="9144000" cy="51595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463760" y="0"/>
            <a:ext cx="621648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557360" y="0"/>
            <a:ext cx="602928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547640" y="-171360"/>
            <a:ext cx="5972400" cy="70293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530360" y="0"/>
            <a:ext cx="6234120" cy="70293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적응증 및 금기증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험 사항 및 주의할 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화상 전장의 집중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도한 용량사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민한 피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액순환 장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용량 과대적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중 통증과 다른 증상이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실신 및 현기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압강하에 따른 대뇌의 빈혈로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괴사 야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소동맥의 혈류장애를 받는 조직은 산소 공급 부족으로 생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    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습기에 의한 열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젖은 수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기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철재용구의 접촉시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반적 고려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탈의 및 금속제거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감각 검사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율적인 도자배치법 구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강도의 결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시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종료후 치료부위의 검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후 휴식시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0-1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특히 노인 환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순환장애부 치료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사 가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시간은 길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접가열로 혈류반사 유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지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골반이나 복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상지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목 부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장의 유전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솔레노이드 코일 안에 팔다리와 같은 큰 전도체를 넣고 고주파 교류전류를 통전 시키면 솔레노이드 안의 팔다리와 솔레노이드 주위에 자기장이 형성되고 솔레노이드 안의 팔다리에서는 자기장의 방향에 수직으로 원형전류가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원형으로 도는 전류를 국소전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eddy current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라고 하며 국소전류에 의해 조직에서 열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447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refrac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은 물질의 유전율과 전도도가 달라지는 경계면에서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인 면에서 전기장 안에 금속과 같은 전도도가 좋은 물질이 있을 때 금속의 표면에서 심한 굴절이 일어나 전하가 많이 축적 되어 열이 과도하게 발생되어 인접조직에 화상 및 괴사가 일어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324000" y="731520"/>
            <a:ext cx="83628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reflec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ⓛ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자파가 임피던스가 다른 물질에 부딛면 경계면에서 반사되어 반대방향으로  진행하는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부투열에서 단파 보다 극초단파에서 반사가 현저하게 일어나고 극초단파 에너지는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의 경계면에서 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 사이에서 에너지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%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량이 반사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서 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 사이에 반사가 많아 피하지방층에 열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최근 공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부 사이의 반사의 최소화를 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15MHz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와 접촉형 전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irect contact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director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을 사용하는데 반사가 적어서 심부조직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과적으로 가열할 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anslation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자파는 진공이나 공기속을 빛과 같은 속도로 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파하지만 매질을 만나면 전파속도가 느려지며 전파속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는 매질의 전자파 에너지  흡수 정도에 영향을 받는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30T22:46:35Z</dcterms:created>
  <dc:creator>CTS</dc:creator>
  <dc:description/>
  <dc:language>en-US</dc:language>
  <cp:lastModifiedBy>권순태</cp:lastModifiedBy>
  <dcterms:modified xsi:type="dcterms:W3CDTF">2005-05-28T01:59:02Z</dcterms:modified>
  <cp:revision>289</cp:revision>
  <dc:subject/>
  <dc:title>PowerPoint 프레젠테이션</dc:title>
</cp:coreProperties>
</file>